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E38-6250-48C8-BAB3-F7D4D818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31F-7B96-4F19-AE4A-3460A918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97B-91E6-4896-B6F1-5B611881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EBA-49ED-4323-95D9-84361CD5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166-5EB2-4533-8763-A1690109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81A-567A-4A61-A745-6ABC494B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045-C91B-4B6A-A2FD-D4474B79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FBA-3EBF-48E2-B9E3-6556A2A2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D13-7122-4D90-B498-F766DD68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41F-01AF-4BB6-8901-F320168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F79-3388-44AE-86C2-E760F488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161-1135-4EA5-A0D8-3AF1C876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0ED4-B2A6-4FAF-A20C-E3CF666636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920" y="838080"/>
            <a:ext cx="164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6 00 0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0240" y="228600"/>
            <a:ext cx="52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vokevirtual java/awt/Window/show()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51880" y="2057400"/>
            <a:ext cx="2923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A 00 17 00 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0720" y="1752480"/>
            <a:ext cx="18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000E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番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ethodR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24360" y="3429000"/>
            <a:ext cx="164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urier New"/>
              </a:rPr>
              <a:t>07 00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13840" y="3429000"/>
            <a:ext cx="2923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C 00 16 00 0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1400" y="3124080"/>
            <a:ext cx="13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0017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番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1960" y="312408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0011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番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ameAnd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1400" y="6172200"/>
            <a:ext cx="8410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01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Courier New"/>
              </a:rPr>
              <a:t>00 0F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 6A 61 76 61 2F 61 77 74 2F 57 69 6E 64 6F 7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9160" y="5867280"/>
            <a:ext cx="290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001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番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Utf8 “java/awt/Wind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760" y="4572000"/>
            <a:ext cx="3381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01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Courier New"/>
              </a:rPr>
              <a:t>00 04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 73 68 6F 7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46560" y="430992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0016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番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Utf8 “sh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9200" y="548640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01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Courier New"/>
              </a:rPr>
              <a:t>00 03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 28 29 5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56600" y="5181480"/>
            <a:ext cx="17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0008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番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Utf8 “()V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1430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00200" y="2286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22860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895480" y="365760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3657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85440" y="36576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3:36:28Z</dcterms:created>
  <dc:creator>admin</dc:creator>
  <dc:description/>
  <dc:language>en-US</dc:language>
  <cp:lastModifiedBy>admin</cp:lastModifiedBy>
  <dcterms:modified xsi:type="dcterms:W3CDTF">2002-07-07T03:52:57Z</dcterms:modified>
  <cp:revision>6</cp:revision>
  <dc:subject/>
  <dc:title>PowerPoint プレゼンテーション</dc:title>
</cp:coreProperties>
</file>